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E73-2FF4-445F-9AD1-B76747A4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42C-96AF-46BF-AE93-9CD6F01B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FA3-8B33-4AF5-8843-947F634A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EEA-25E2-4675-87A8-9F58540D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1D6-3485-4101-B064-9FD73307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EBB-A9E5-4BAD-AEFF-35ABB767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F17-05A4-4790-B3F3-EC547E3B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914-7665-4CB0-BEFA-382DCDFC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5C4-5703-429D-B7F8-80434B58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5CE-80E2-4BA7-B4EC-C9A044C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BCB-0C12-4CD8-B15E-C6BEC26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9F2-B8B5-444B-8BE1-BC95158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C2F8-732F-4923-9091-90C1E1BE1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res emplois du conditi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assé/antéri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eut s’employer pour rapporter des faits dans le passé dont on n’est pas sû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. Un des fils du colonel Kadhafi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aurait été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ué par une frappe aérienne, mais ‘les preuves ne sont pas suffisantes’, a-t-elle ajou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m’a dit qu’il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arriverai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e croyais qu’il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omprendrai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elon les journalistes, les rebelles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serai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Tripoli mainte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voudrai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vous présenter mes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Pourriez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-vous m’ai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e retiendrai une autre plac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au cas où vous décideriez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v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j’étais à votre place, j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n’irais 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’utilise pour exprimer une action future dans le passé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.  Il a dit qu’il viendrait dem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savais que tu le fera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es parents pensaient qu’il serait avoca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e professeur nous a averti que l’examen serait diffic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eut être une forme de polites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voudrais vous pa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riez-vous m’a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’aimerais aller au théâtre ce s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auriez-vous l’heure, s’il vous plaî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’emploie avec: ‘au cas où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lle nous donnera son adresse au cas où nous irions à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Nous prendrons le car au cas où il y aurait une grève de la SNC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’utilise dans les phrases SIC, CSI (si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…conditionnel) (conditionnel, si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’utilise pour rapporter un fait dont on n’est pas sûr, surtout dans les nouv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u présent, on utilise le conditionnel présent, au passé, on utilise le conditionnel antérie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.  Il y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aurait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eaucoup plus de radioactivité que ce que les autorités japonaises nous ont révél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conditionnel passé ou antéri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Modè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erait-il déjà par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’aurais voulu vous présenter mes parents, mais vous n’étiez pas l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i j’avais été à votre place, je ne serais pas allé à la fê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e fils de Gadhafi aurait été tué, selon une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 une forme de politesse au passé et peut souvent exprimer le regret d’un désir manq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’aurais voulu vous présenter mes parents, mais vous n’étiez pas l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rquoi ne m’as-tu pas téléphoné?  J’aurais pu t’ai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s aurions aimé le voir avant son dé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riez-vous su le faire mieux que l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2:06:39Z</dcterms:created>
  <dc:creator>hynschts</dc:creator>
  <dc:description/>
  <dc:language>en-US</dc:language>
  <cp:lastModifiedBy>Christopher Levy</cp:lastModifiedBy>
  <dcterms:modified xsi:type="dcterms:W3CDTF">2016-05-26T03:01:55Z</dcterms:modified>
  <cp:revision>6</cp:revision>
  <dc:subject/>
  <dc:title>Les autres emplois du conditionnel</dc:title>
</cp:coreProperties>
</file>